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0A3-B285-480A-ACD7-67440228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4E0-F6B0-440C-B6E2-D3F28F33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CBB-4D63-4CDF-B564-F95F4FCC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9BF-45BE-4E0E-96C2-E7A7113C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EA3-2BC1-4160-AFE2-45D63BF5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822-E35C-4583-AAF4-EA5CF9B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915-42C3-4850-914C-C482CBA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A60-A7D8-47AA-987D-293240C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D14-FFCD-4412-8B1E-687BFFC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A3C-E0D0-4FCF-B80E-60D5B46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752-38A4-4924-B5AF-0A0BBA9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931-78BC-42BE-A792-B336094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4A5F-6297-4922-8638-D96B6206F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28:34Z</dcterms:created>
  <dc:creator>Grupo Editorial</dc:creator>
  <dc:description/>
  <dc:language>en-US</dc:language>
  <cp:lastModifiedBy>Grupo Editorial</cp:lastModifiedBy>
  <dcterms:modified xsi:type="dcterms:W3CDTF">2001-11-13T10:30:46Z</dcterms:modified>
  <cp:revision>1</cp:revision>
  <dc:subject/>
  <dc:title>Sin título de diapositiva</dc:title>
</cp:coreProperties>
</file>